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AFB0-69B0-41FF-89A9-A9F41D5D955F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BLE = Community Atmosphere Biosphere Land Exchang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witching to IGBP vegetation types as our research show better correlation with phenological dates from satellite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obert Pipunic (MU) and Adam Smith (BMRC) have applied CABLE on Kyeamba Creek and Murray Darling Basin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ABLE will be the land-surface module of the global model A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Who is developing Earth Systems Modelling 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Hadley Centre (U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IPSL (Fr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MPI (German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FRCGC (Jap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NCAR (US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GFDL (US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eteorological forcing provided by GCM are passed through the interface to CABLE (radiation, wind, pressure, CO2 concentration, air and soil temperature, precipitation, soil moisture). SEB = surface energy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ABLE modifies the soil temperature and moisture, calculates the carbon fluxes and passes back through interface to the G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n offline mode, CABLE can work on single point or multiple points so long as the met forcing at those points are provi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Black line – predictions with constant Vcmax (used in most LSM): Red line – predictions with seasonal varying Vcmax as function of soil temperature at 20 cm depth. So, this is adopted as the standard calculations within CABLE for deciduous for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imilar trends for various deciduous forests. The relative vcmax increases during the beginning of growth season due to increase in enzymes; and then during senescence, it decreases due to degradation and translocation of leaf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HE = Hesse, HV = Harvard Forest, VI = Vielsalm, WB = Walker Branch, WL = Park Falls/WL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BC51-0A2E-4A4F-A0B4-B8E5407E0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6AC8-41DB-4DAE-814E-B6E87E65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F7A2-54CB-4CEB-9410-8B6B9A114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B4E6-AF19-4122-BC35-AF98517B9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3228-4502-4E15-AED6-FC549FA1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E1AD-C638-43D3-97C9-DB797DB8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AEBE-0168-4A3B-BEAE-38EEF58D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7DEC-EE13-4991-8207-644C4AC4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7F42-8A74-423B-B61D-5D354A5E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FCFD-6FCC-433C-8D29-0961C9EE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2CF2-5FB0-4587-B64C-F90CD9C6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C0D0-5B48-4225-B569-7021D6E3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0A34-A55F-4982-AD9D-49D0E5B9D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teams.csiro.au/sites/cable/default.aspx" TargetMode="External"/><Relationship Id="rId2" Type="http://schemas.openxmlformats.org/officeDocument/2006/relationships/hyperlink" Target="https://teams.csiro.au/sites/cable/default.aspx" TargetMode="External"/><Relationship Id="rId3" Type="http://schemas.openxmlformats.org/officeDocument/2006/relationships/hyperlink" Target="mailto:bernard.pak@csiro.au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BLE: the Australian community land surfac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55640" y="3284280"/>
            <a:ext cx="76327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nard Pak, Yingping Wang, Eva Kowalczy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IRO Marine and Atmospheric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zFlux08, Adelaide, 4-6 Feb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812000" y="549360"/>
            <a:ext cx="7034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s to-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ajor clean-up and rewriting of codes in FORTRAN90 standard, making it more modular and more flex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 secured website has been set up for code distribution, installation help and exchange of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tandard scripts introduced to help analyzing res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onthly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ASA-CNP: Nitrogen and phosphorus have been found to impact strongly on climate predictions. Such nutrient cycles will be implemented within the current year. It also necessitates a better phenology mod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ynamic vegetation: a UNSW post-doc (Dr. Jiafu Mao) have just started in January. He will implement LPJ into C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ydrology: MU and BoM have done some work, we will have at least one post-doc later this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BLE as the Australian community land surfac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 codes and documentation are available to all registered users online at </a:t>
            </a:r>
            <a:r>
              <a:rPr b="0" lang="en-A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</a:t>
            </a:r>
            <a:r>
              <a:rPr b="0" lang="en-A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eams.csiro.au/sites/cable/default.aspx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mail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ernard.pak@csiro.a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regis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looking for collaboration to validate/improve C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odelling </a:t>
            </a:r>
            <a:r>
              <a:rPr b="0" i="1" lang="en-AU" sz="4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AU" sz="4400" spc="-1" strike="noStrike" baseline="-25000">
                <a:solidFill>
                  <a:srgbClr val="000000"/>
                </a:solidFill>
                <a:latin typeface="Arial"/>
              </a:rPr>
              <a:t>cmax</a:t>
            </a: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AU" sz="4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AU" sz="4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971640" y="1700280"/>
                <a:ext cx="7488000" cy="47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κv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;        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t xml:space="preserve">θ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Γ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κ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)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caling up from leaf of canopy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t xml:space="preserve">5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ΔT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eaf age effect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af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euning 1997 for C3 species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25 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, Leuning 1997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θ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β</m:t>
                        </m:r>
                        <m:f>
                          <m:num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p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Parameter r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11280" y="1628640"/>
          <a:ext cx="10883880" cy="457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628640"/>
                    <a:ext cx="10883880" cy="45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78487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Observed and estimated </a:t>
            </a:r>
            <a:r>
              <a:rPr b="0" i="1" lang="en-AU" sz="4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AU" sz="4000" spc="-1" strike="noStrike" baseline="-25000">
                <a:solidFill>
                  <a:srgbClr val="000000"/>
                </a:solidFill>
                <a:latin typeface="Arial"/>
              </a:rPr>
              <a:t>cmax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 per unit leaf area during growing season (</a:t>
            </a:r>
            <a:r>
              <a:rPr b="0" i="1" lang="en-AU" sz="4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mol m</a:t>
            </a:r>
            <a:r>
              <a:rPr b="0" lang="en-AU" sz="4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AU" sz="4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68360" y="2719440"/>
          <a:ext cx="7704000" cy="3533760"/>
        </p:xfrm>
        <a:graphic>
          <a:graphicData uri="http://schemas.openxmlformats.org/drawingml/2006/table">
            <a:tbl>
              <a:tblPr/>
              <a:tblGrid>
                <a:gridCol w="2568600"/>
                <a:gridCol w="2566800"/>
                <a:gridCol w="2568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vard for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mbarumb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ytia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s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alian Community Climate Earth System Simulator (ACCESS) modelling program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987640" y="1413000"/>
          <a:ext cx="6015240" cy="50068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1413000"/>
                    <a:ext cx="6015240" cy="50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31840" y="1504800"/>
            <a:ext cx="3106800" cy="45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iagram to right shows ‘scop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undamentally conceived as a modelling ‘system’ that meets a variety of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iority need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erical weather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limate change simulation cap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llaboration between key institutions (Bureau, CSIRO, Australian Universities,…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3000" y="765000"/>
            <a:ext cx="6400800" cy="609840"/>
          </a:xfrm>
          <a:prstGeom prst="rect">
            <a:avLst/>
          </a:prstGeom>
          <a:solidFill>
            <a:srgbClr val="ccecff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nterface to the G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74800" y="3344760"/>
            <a:ext cx="663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1595520"/>
            <a:ext cx="1904760" cy="190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no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dia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nlit &amp; sha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ible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ar infra-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e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2494080"/>
            <a:ext cx="1752840" cy="1295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mata trans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amp; 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96000" y="1628640"/>
            <a:ext cx="1655640" cy="1108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b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ux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PP, NPP,N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1557360"/>
            <a:ext cx="2057400" cy="16002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B  &amp; flux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soil-vege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, 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, 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apotranspi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84360" y="3933720"/>
            <a:ext cx="1981440" cy="459720"/>
          </a:xfrm>
          <a:prstGeom prst="rect">
            <a:avLst/>
          </a:prstGeom>
          <a:solidFill>
            <a:srgbClr val="00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il mois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93080" y="3933720"/>
            <a:ext cx="182880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09680" y="4508640"/>
            <a:ext cx="4648320" cy="459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bon pools; allocation &amp;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94320" y="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e general structure of C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90920" y="2286000"/>
            <a:ext cx="457200" cy="395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09680" y="5157720"/>
            <a:ext cx="4648320" cy="459720"/>
          </a:xfrm>
          <a:prstGeom prst="rect">
            <a:avLst/>
          </a:prstGeom>
          <a:solidFill>
            <a:srgbClr val="99cc00"/>
          </a:solidFill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A-C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57800" y="3048120"/>
            <a:ext cx="380880" cy="533160"/>
          </a:xfrm>
          <a:custGeom>
            <a:avLst/>
            <a:gdLst>
              <a:gd name="textAreaLeft" fmla="*/ 50760 w 380880"/>
              <a:gd name="textAreaRight" fmla="*/ 330120 w 380880"/>
              <a:gd name="textAreaTop" fmla="*/ 93240 h 533160"/>
              <a:gd name="textAreaBottom" fmla="*/ 3866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5640" y="5805360"/>
            <a:ext cx="4681440" cy="520560"/>
          </a:xfrm>
          <a:prstGeom prst="rect">
            <a:avLst/>
          </a:prstGeom>
          <a:solidFill>
            <a:srgbClr val="808000"/>
          </a:solidFill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getation dynamics/disturb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3933720"/>
            <a:ext cx="1981080" cy="459720"/>
          </a:xfrm>
          <a:prstGeom prst="rect">
            <a:avLst/>
          </a:prstGeom>
          <a:solidFill>
            <a:srgbClr val="996633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il tem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43280" y="3933720"/>
            <a:ext cx="2232360" cy="459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il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1280" y="6593040"/>
            <a:ext cx="855180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walczyk et al., CMAR Research Paper 013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1000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getation parameters required for CABLE</a:t>
            </a: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511600" y="3933720"/>
            <a:ext cx="3452760" cy="2881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ographically explici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I – leaf area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ractional co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3/C4 -  f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el calcula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0 – roughness leng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 – canopy albedo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905040"/>
            <a:ext cx="4572000" cy="38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669900"/>
                </a:solidFill>
                <a:latin typeface="Arial"/>
              </a:rPr>
              <a:t>VEGETATION  TY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669900"/>
                </a:solidFill>
                <a:latin typeface="Arial"/>
              </a:rPr>
              <a:t>1     broad-leaf evergreeen tr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669900"/>
                </a:solidFill>
                <a:latin typeface="Arial"/>
              </a:rPr>
              <a:t>2     broad-leaf deciduous tr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669900"/>
                </a:solidFill>
                <a:latin typeface="Arial"/>
              </a:rPr>
              <a:t>3     broad-leaf and needle-leaf tr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669900"/>
                </a:solidFill>
                <a:latin typeface="Arial"/>
              </a:rPr>
              <a:t>4     needle-leaf evergreen tr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669900"/>
                </a:solidFill>
                <a:latin typeface="Arial"/>
              </a:rPr>
              <a:t>5     needle-leaf deciduous tr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669900"/>
                </a:solidFill>
                <a:latin typeface="Arial"/>
              </a:rPr>
              <a:t>6     broad-leaf trees with ground cover   /short-vegetation/C4 grass (savan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669900"/>
                </a:solidFill>
                <a:latin typeface="Arial"/>
              </a:rPr>
              <a:t>7     perennial grassl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669900"/>
                </a:solidFill>
                <a:latin typeface="Arial"/>
              </a:rPr>
              <a:t>8     broad-leaf shrubs with grass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669900"/>
                </a:solidFill>
                <a:latin typeface="Arial"/>
              </a:rPr>
              <a:t>9     broad-leaf shrubs with bare so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669900"/>
                </a:solidFill>
                <a:latin typeface="Arial"/>
              </a:rPr>
              <a:t>10    tund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669900"/>
                </a:solidFill>
                <a:latin typeface="Arial"/>
              </a:rPr>
              <a:t>11    bare soil and des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9900"/>
              </a:buClr>
              <a:buFont typeface="Arial"/>
              <a:buAutoNum type="arabicPlain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669900"/>
                </a:solidFill>
                <a:latin typeface="Arial"/>
              </a:rPr>
              <a:t>  </a:t>
            </a:r>
            <a:r>
              <a:rPr b="1" lang="en-AU" sz="1600" spc="-1" strike="noStrike">
                <a:solidFill>
                  <a:srgbClr val="669900"/>
                </a:solidFill>
                <a:latin typeface="Arial"/>
              </a:rPr>
              <a:t>agricultural/c3 grass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669900"/>
                </a:solidFill>
                <a:latin typeface="Arial"/>
              </a:rPr>
              <a:t>13    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7840" y="4653000"/>
            <a:ext cx="5041800" cy="2071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A grouping of species that show clo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similarities in their response  to environm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control have common properties such 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getation he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oot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ax carboxylation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eaf dimension and angle, sheltering facto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eaf interception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076720" y="476280"/>
            <a:ext cx="403884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il parameters required for C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4392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il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arse sand/Loamy s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um clay loam/silty clay loam/silt lo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e c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arse-medium sandy loam/lo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arse-fine sandy c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um-fine silty c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arse-medium-fine sandy clay lo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ganic 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manent 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07240" y="1052640"/>
            <a:ext cx="3923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il Proper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- water bala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wilting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fiel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aturation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hydraulic conductivity at sat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matric potential at sat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- heat stor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albed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pecific heat,  thermal con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1" lang="en-AU" sz="1800" spc="-1" strike="noStrike">
                <a:solidFill>
                  <a:srgbClr val="663300"/>
                </a:solidFill>
                <a:latin typeface="Arial"/>
              </a:rPr>
              <a:t>- soil dep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Global Soil Types"/>
          <p:cNvPicPr/>
          <p:nvPr/>
        </p:nvPicPr>
        <p:blipFill>
          <a:blip r:embed="rId1"/>
          <a:stretch/>
        </p:blipFill>
        <p:spPr>
          <a:xfrm>
            <a:off x="34920" y="4378320"/>
            <a:ext cx="5184720" cy="2454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513760" y="6130800"/>
            <a:ext cx="2820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ost, W., and L. Zobler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Global Soil Types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Nonlinear parameter 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9 FLUXNET sites, including all major veg types in the temperate and subtropical clima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Uniform parameter range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ptimisation was applied to each year’s measurements separatel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ach type of obs was weighted by the SD of measurements over a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ublished in Wang et al. (Global Change Biology, 2001 and 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 temperate evergreen forest, Tumbarumbra,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195640" y="549360"/>
            <a:ext cx="49179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476360" y="333360"/>
          <a:ext cx="5249880" cy="604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333360"/>
                    <a:ext cx="5249880" cy="60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Relative Vcmax: deciduous fore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539640" y="1628640"/>
          <a:ext cx="8280360" cy="433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28640"/>
                    <a:ext cx="8280360" cy="433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2124000" y="4365720"/>
            <a:ext cx="9352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48360" y="4437000"/>
            <a:ext cx="934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35280" y="3645000"/>
            <a:ext cx="115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33399"/>
                </a:solidFill>
                <a:latin typeface="Tahoma"/>
              </a:rPr>
              <a:t>Leaf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3280" y="393372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9900"/>
                </a:solidFill>
                <a:latin typeface="Tahoma"/>
              </a:rPr>
              <a:t>Leaf 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01:20:14Z</dcterms:created>
  <dc:creator>Pak, Bernard (CMAR, Aspendale)</dc:creator>
  <dc:description/>
  <dc:language>en-US</dc:language>
  <cp:lastModifiedBy>Pak, Bernard (CMAR, Aspendale)</cp:lastModifiedBy>
  <dcterms:modified xsi:type="dcterms:W3CDTF">2008-01-31T00:52:23Z</dcterms:modified>
  <cp:revision>12</cp:revision>
  <dc:subject/>
  <dc:title>CABLE: the Australian community land surface mod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21230021</vt:r8>
  </property>
  <property fmtid="{D5CDD505-2E9C-101B-9397-08002B2CF9AE}" pid="3" name="_AuthorEmail">
    <vt:lpwstr>Yingping.Wang@csiro.au</vt:lpwstr>
  </property>
  <property fmtid="{D5CDD505-2E9C-101B-9397-08002B2CF9AE}" pid="4" name="_AuthorEmailDisplayName">
    <vt:lpwstr>Wang, Yingping (CMAR, Aspendale)</vt:lpwstr>
  </property>
  <property fmtid="{D5CDD505-2E9C-101B-9397-08002B2CF9AE}" pid="5" name="_EmailSubject">
    <vt:lpwstr>ozflux2008-cable.ppt</vt:lpwstr>
  </property>
  <property fmtid="{D5CDD505-2E9C-101B-9397-08002B2CF9AE}" pid="6" name="_ReviewingToolsShownOnce">
    <vt:lpwstr/>
  </property>
</Properties>
</file>